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zipdn102.wav" ContentType="audio/x-wav"/>
  <Override PartName="/ppt/media/slider22.wav" ContentType="audio/x-wav"/>
  <Override PartName="/ppt/media/bserie06.wav" ContentType="audio/x-wav"/>
  <Override PartName="/ppt/media/jetflyby2.wav" ContentType="audio/x-wav"/>
  <Override PartName="/ppt/media/hzipup01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E1AA-A7BD-4B64-8578-449D9AC17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47F0-275E-4DC1-AB72-6335E2ED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ADDB-E8EA-433F-A22E-8045E4928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0499-7593-4FDF-8798-FF61125B9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6758-6F0C-4D7D-9BB6-46E69514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C820-1893-4FBC-B5FC-769857B3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32C6-12D5-42B8-9D87-DDDA033E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BEBC-695D-4E74-A15A-B42BC7B4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D58F-9983-4100-A370-2C6D9699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4328-F665-4CF2-9929-626F1FC9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6A69-8834-4D1E-A864-3453F04D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A2EF-90B3-4BE0-89BC-F6877C1C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8AB2-7A80-49BF-9676-3E20D8364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jetflyby2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hzipup01.wav"/><Relationship Id="rId9" Type="http://schemas.openxmlformats.org/officeDocument/2006/relationships/audio" Target="../media/zipdn102.wav"/><Relationship Id="rId10" Type="http://schemas.openxmlformats.org/officeDocument/2006/relationships/audio" Target="../media/hzipup01.wav"/><Relationship Id="rId11" Type="http://schemas.openxmlformats.org/officeDocument/2006/relationships/audio" Target="../media/zipdn102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slider22.wav"/><Relationship Id="rId9" Type="http://schemas.openxmlformats.org/officeDocument/2006/relationships/audio" Target="../media/hzipup01.wav"/><Relationship Id="rId10" Type="http://schemas.openxmlformats.org/officeDocument/2006/relationships/audio" Target="../media/zipdn102.wav"/><Relationship Id="rId11" Type="http://schemas.openxmlformats.org/officeDocument/2006/relationships/audio" Target="../media/hzipup01.wav"/><Relationship Id="rId12" Type="http://schemas.openxmlformats.org/officeDocument/2006/relationships/audio" Target="../media/zipdn102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zapbig0g.wav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zapbig0g.wav"/><Relationship Id="rId4" Type="http://schemas.openxmlformats.org/officeDocument/2006/relationships/audio" Target="../media/zapbig0g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hzipup01.wav"/><Relationship Id="rId7" Type="http://schemas.openxmlformats.org/officeDocument/2006/relationships/audio" Target="../media/zipdn102.wav"/><Relationship Id="rId8" Type="http://schemas.openxmlformats.org/officeDocument/2006/relationships/audio" Target="../media/hzipup01.wav"/><Relationship Id="rId9" Type="http://schemas.openxmlformats.org/officeDocument/2006/relationships/audio" Target="../media/zipdn102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hzipup01.wav"/><Relationship Id="rId5" Type="http://schemas.openxmlformats.org/officeDocument/2006/relationships/audio" Target="../media/zipdn102.wav"/><Relationship Id="rId6" Type="http://schemas.openxmlformats.org/officeDocument/2006/relationships/audio" Target="../media/hzipup01.wav"/><Relationship Id="rId7" Type="http://schemas.openxmlformats.org/officeDocument/2006/relationships/audio" Target="../media/zipdn102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Evaluate each express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303120" y="1119240"/>
                <a:ext cx="673092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lw</m:t>
                    </m:r>
                    <m:r>
                      <m:rPr>
                        <m:lit/>
                        <m:nor/>
                      </m:rPr>
                      <m:t xml:space="preserve"> when 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703520" y="2332080"/>
                <a:ext cx="213984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097000" y="5081760"/>
                <a:ext cx="37944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774880" y="4178160"/>
                <a:ext cx="997200" cy="185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270240" y="5083200"/>
                <a:ext cx="5223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325520" y="4152960"/>
                <a:ext cx="137952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550880" y="4091040"/>
                <a:ext cx="449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 flipV="1">
            <a:off x="2009880" y="4352400"/>
            <a:ext cx="533160" cy="4892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781440" y="5175360"/>
                <a:ext cx="3589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 flipV="1">
            <a:off x="3224160" y="5149800"/>
            <a:ext cx="533520" cy="488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4413240" y="4210200"/>
                <a:ext cx="135108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5146560" y="5097600"/>
                <a:ext cx="35748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5732640" y="4649760"/>
                <a:ext cx="12492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Evaluate each express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98440" y="1171440"/>
                <a:ext cx="775656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A</m:t>
                    </m:r>
                    <m:r>
                      <m:t xml:space="preserve">÷</m:t>
                    </m:r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 when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754200" y="2387520"/>
                <a:ext cx="2187360" cy="17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÷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287880" y="4341960"/>
                <a:ext cx="185256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4998960" y="4317840"/>
                <a:ext cx="857160" cy="17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279600" y="2409840"/>
                <a:ext cx="142740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062240" y="3325680"/>
                <a:ext cx="3794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629240" y="2408400"/>
                <a:ext cx="1326960" cy="18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5303880" y="3301920"/>
                <a:ext cx="4744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465360" y="4313160"/>
                <a:ext cx="4510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 flipV="1">
            <a:off x="3929040" y="4533480"/>
            <a:ext cx="592200" cy="4460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842080" y="5465880"/>
                <a:ext cx="3571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 flipV="1">
            <a:off x="5103720" y="5362560"/>
            <a:ext cx="533520" cy="488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6162840" y="4459320"/>
                <a:ext cx="130788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6873840" y="5346720"/>
                <a:ext cx="3571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7380360" y="4888080"/>
                <a:ext cx="121752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lider2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Evaluate each express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730080" y="1308240"/>
                <a:ext cx="406260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when </m:t>
                    </m:r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476360" y="2897280"/>
                <a:ext cx="1527120" cy="16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083040" y="2922480"/>
                <a:ext cx="1398600" cy="15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701880" y="3840120"/>
                <a:ext cx="71460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Evaluate each express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18960" y="1190520"/>
                <a:ext cx="771552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t xml:space="preserve">l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 when 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698480" y="2200320"/>
                <a:ext cx="361332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736640" y="3876840"/>
                <a:ext cx="275616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518000" y="3868560"/>
                <a:ext cx="569880" cy="184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559400" y="4824360"/>
                <a:ext cx="52380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219480" y="3846600"/>
                <a:ext cx="3603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 flipV="1">
            <a:off x="3465360" y="4070160"/>
            <a:ext cx="592200" cy="4460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086440" y="4921200"/>
                <a:ext cx="3571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 flipV="1">
            <a:off x="4546440" y="4911840"/>
            <a:ext cx="533520" cy="488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179800" y="5765760"/>
                <a:ext cx="12175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411360" y="5775480"/>
                <a:ext cx="44640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873600" y="5769000"/>
                <a:ext cx="1206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Evaluate each express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88960" y="1204920"/>
                <a:ext cx="701676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 when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201760" y="2214720"/>
                <a:ext cx="2233800" cy="16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855880" y="2577960"/>
                <a:ext cx="571680" cy="16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855800" y="3276720"/>
                <a:ext cx="3603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 flipV="1">
            <a:off x="2181240" y="3355560"/>
            <a:ext cx="592200" cy="4460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483000" y="2351160"/>
                <a:ext cx="3571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 flipV="1">
            <a:off x="2878200" y="2792520"/>
            <a:ext cx="533160" cy="488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270160" y="4375080"/>
                <a:ext cx="901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203640" y="4352760"/>
                <a:ext cx="35712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557520" y="4361040"/>
                <a:ext cx="93816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33524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31, 9 – 6 #1-1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84 #1-1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5-02-04T12:34:30Z</dcterms:modified>
  <cp:revision>92</cp:revision>
  <dc:subject/>
  <dc:title>Slide 1</dc:title>
</cp:coreProperties>
</file>